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AED-9C43-4090-BF72-657A4608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008-AEFF-4C4E-8DDC-6F112685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104-B849-416A-87B9-AAE889F4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BCF-BA8A-4789-9A35-AECC6E90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313-06F8-421F-9A2A-02F26B48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207-FF22-4548-B9C4-257145CF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E18-111B-4B74-ABC0-D5460591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9A6-AAC5-4F7F-A740-4D5BDEC4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6BB-EAD5-43BD-8D78-544ED254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B70-F50F-4C95-A4E5-F198B510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5C7-F581-492C-988D-26761A26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810-DCF3-4584-9B37-0B17D530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B298-74A7-4824-BECE-8C54AE88A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s from this Mee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52280"/>
            <a:ext cx="4343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verables from this Meet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liverables (In-Proces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 Items for the Next Meet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752480"/>
            <a:ext cx="3962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6360" indent="-236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2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52280"/>
            <a:ext cx="4343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15:58:21Z</dcterms:created>
  <dc:creator>Wayne Haughey</dc:creator>
  <dc:description/>
  <dc:language>en-US</dc:language>
  <cp:lastModifiedBy>Kevin Loughry</cp:lastModifiedBy>
  <dcterms:modified xsi:type="dcterms:W3CDTF">2002-06-07T13:18:53Z</dcterms:modified>
  <cp:revision>26</cp:revision>
  <dc:subject/>
  <dc:title>{TF/SIG/WG/SC Name Here}</dc:title>
</cp:coreProperties>
</file>